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659-21C6-4062-9AA2-9BBDE7C3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364-0EC2-4927-B1F3-A7B9A6D1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33D-F104-484C-9D2A-403553D4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4E0-71FC-4870-BB38-77C88867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C02-BD4D-42B6-8295-FC2EAF4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FA1-062D-40AC-BDF7-F31B651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D1F-7D8C-4C42-834A-F86CD79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D5B-9D72-410A-8D37-EBC3A58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0EC-5EB6-4F5A-86BB-A36FFFE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997-9313-4B3C-8F2B-5E52C97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F37-C2EB-4409-8E44-A8616F0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9B7-5F46-467E-B957-9C37541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F06-118B-4F38-9BBC-88E393BB80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５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se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構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se 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-&gt;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-&gt;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-&gt;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]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5]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7,5]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2,7,5]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3,2,7,5] =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:: [Int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] = 0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um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x:xs) = x + sum xs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um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３　リスト上の原始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整数リストの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出発点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おける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特定の時点における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値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x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ら，次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　行における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値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x:xs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へ進む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３　リスト上の原始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上の原始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:: [Int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] = 0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um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(x:xs) = x + sum xs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um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[3,2,7,5]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[3,2,7,5] = 3:[2,7,5]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+ sum [2,7,5]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[2,7,5] = 2:[7,5]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+ (2 + sum [7,5])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[7,5] = 7:[5]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+ (2 + (7 + sum [5]))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[5] = 5:[]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+ (2 + (7 + (5 + sum []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+ (2 + (7 + (5 + 0)))  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３　リスト上の原始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上の原始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23840" y="4778280"/>
            <a:ext cx="577800" cy="119160"/>
            <a:chOff x="1023840" y="4778280"/>
            <a:chExt cx="577800" cy="119160"/>
          </a:xfrm>
        </p:grpSpPr>
        <p:sp>
          <p:nvSpPr>
            <p:cNvPr id="95" name=""/>
            <p:cNvSpPr/>
            <p:nvPr/>
          </p:nvSpPr>
          <p:spPr>
            <a:xfrm>
              <a:off x="1023840" y="4778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78520" y="4842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23840" y="5200560"/>
            <a:ext cx="577800" cy="119160"/>
            <a:chOff x="1023840" y="5200560"/>
            <a:chExt cx="577800" cy="119160"/>
          </a:xfrm>
        </p:grpSpPr>
        <p:sp>
          <p:nvSpPr>
            <p:cNvPr id="98" name=""/>
            <p:cNvSpPr/>
            <p:nvPr/>
          </p:nvSpPr>
          <p:spPr>
            <a:xfrm>
              <a:off x="1023840" y="5200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78520" y="52646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23840" y="5622840"/>
            <a:ext cx="577800" cy="119160"/>
            <a:chOff x="1023840" y="5622840"/>
            <a:chExt cx="577800" cy="119160"/>
          </a:xfrm>
        </p:grpSpPr>
        <p:sp>
          <p:nvSpPr>
            <p:cNvPr id="101" name=""/>
            <p:cNvSpPr/>
            <p:nvPr/>
          </p:nvSpPr>
          <p:spPr>
            <a:xfrm>
              <a:off x="1023840" y="56228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478520" y="56869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023840" y="6045120"/>
            <a:ext cx="577800" cy="119160"/>
            <a:chOff x="1023840" y="6045120"/>
            <a:chExt cx="577800" cy="119160"/>
          </a:xfrm>
        </p:grpSpPr>
        <p:sp>
          <p:nvSpPr>
            <p:cNvPr id="104" name=""/>
            <p:cNvSpPr/>
            <p:nvPr/>
          </p:nvSpPr>
          <p:spPr>
            <a:xfrm>
              <a:off x="1023840" y="6045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478520" y="6109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23840" y="6467400"/>
            <a:ext cx="577800" cy="119160"/>
            <a:chOff x="1023840" y="6467400"/>
            <a:chExt cx="577800" cy="119160"/>
          </a:xfrm>
        </p:grpSpPr>
        <p:sp>
          <p:nvSpPr>
            <p:cNvPr id="107" name=""/>
            <p:cNvSpPr/>
            <p:nvPr/>
          </p:nvSpPr>
          <p:spPr>
            <a:xfrm>
              <a:off x="1023840" y="6467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478520" y="6531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573960" y="6489720"/>
            <a:ext cx="577800" cy="119160"/>
            <a:chOff x="6573960" y="6489720"/>
            <a:chExt cx="577800" cy="119160"/>
          </a:xfrm>
        </p:grpSpPr>
        <p:sp>
          <p:nvSpPr>
            <p:cNvPr id="110" name=""/>
            <p:cNvSpPr/>
            <p:nvPr/>
          </p:nvSpPr>
          <p:spPr>
            <a:xfrm>
              <a:off x="6573960" y="6489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028640" y="6553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問うべき質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[]     =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(x:xs) = .. x .. xs .. fun x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もし値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x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あったら，それから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(x:xs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どのように定義できる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960" y="1982880"/>
            <a:ext cx="8852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ncat :: [[a]] -&gt; [a]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concat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ncat [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...,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]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+...++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ncat []     = []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conca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ncat (x:xs) = x ++ concat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conca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++) :: [a]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      ++ [9,8] =       [9,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4]     ++ [9,8] =     [4,9,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3,4]   ++ [9,8] =   [3,4,9,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3,4] ++ [9,8] = [2,3,4,9,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     ++ ys =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x:xs) ++ ys = x:(xs++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 :: Int -&gt; [Int]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要素となる整数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y:ys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要素となるには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==y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あるい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y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要素であることが，必要十分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 x []     = False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elem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 x (y:ys) = (x==y) || (elem x 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  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elem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:: [Int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xs = [ 2*x | x &lt;- xs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  [2,3] =   [4,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[4,2,3] = [8,4,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[]     = []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doubleAll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All (x:xs) = 2*x : doubleAll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doubleAll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electEven :: [Int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electEven xs = [x|x&lt;-xs, isEven 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electEven [] = []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electEven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electEven (x:xs)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selectEven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isEven x  = x : selectEven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    selectEven xs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　リスト上の関数の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１　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パタン照合再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３　リスト上の原始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５　リスト上の一般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７．６　例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テキスト処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ort :: [Int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ort []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Sor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ort (x:xs) = ins x (iSort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Sor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39720" y="3024360"/>
          <a:ext cx="6046920" cy="207000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511280"/>
                <a:gridCol w="151128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:: Int -&gt; [Int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x [] = [x]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x (y: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lt; y     = x : y : ys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y : ins x ys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４　原始再帰定義の発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動作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ort [3,9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iSort [9,2])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Sor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ins 9 (iSort [2]))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ins 9 (ins 2 (iSort [])))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ins 9 (ins 2 []))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Sor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ins 9 [2])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(2 : ins 9 [])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s 3 [2,9]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: ins 3 [9]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: [3,9]   [2,3,9]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ins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23840" y="3068640"/>
            <a:ext cx="577800" cy="119160"/>
            <a:chOff x="1023840" y="3068640"/>
            <a:chExt cx="577800" cy="119160"/>
          </a:xfrm>
        </p:grpSpPr>
        <p:sp>
          <p:nvSpPr>
            <p:cNvPr id="141" name=""/>
            <p:cNvSpPr/>
            <p:nvPr/>
          </p:nvSpPr>
          <p:spPr>
            <a:xfrm>
              <a:off x="1023840" y="3068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478520" y="3132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023840" y="3489480"/>
            <a:ext cx="577800" cy="118800"/>
            <a:chOff x="1023840" y="3489480"/>
            <a:chExt cx="577800" cy="118800"/>
          </a:xfrm>
        </p:grpSpPr>
        <p:sp>
          <p:nvSpPr>
            <p:cNvPr id="144" name=""/>
            <p:cNvSpPr/>
            <p:nvPr/>
          </p:nvSpPr>
          <p:spPr>
            <a:xfrm>
              <a:off x="1023840" y="348948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478520" y="3553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23840" y="3909960"/>
            <a:ext cx="577800" cy="119160"/>
            <a:chOff x="1023840" y="3909960"/>
            <a:chExt cx="577800" cy="119160"/>
          </a:xfrm>
        </p:grpSpPr>
        <p:sp>
          <p:nvSpPr>
            <p:cNvPr id="147" name=""/>
            <p:cNvSpPr/>
            <p:nvPr/>
          </p:nvSpPr>
          <p:spPr>
            <a:xfrm>
              <a:off x="1023840" y="3909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78520" y="3974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23840" y="4344840"/>
            <a:ext cx="577800" cy="119160"/>
            <a:chOff x="1023840" y="4344840"/>
            <a:chExt cx="577800" cy="119160"/>
          </a:xfrm>
        </p:grpSpPr>
        <p:sp>
          <p:nvSpPr>
            <p:cNvPr id="150" name=""/>
            <p:cNvSpPr/>
            <p:nvPr/>
          </p:nvSpPr>
          <p:spPr>
            <a:xfrm>
              <a:off x="1023840" y="43448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478520" y="44089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023840" y="4795920"/>
            <a:ext cx="577800" cy="119160"/>
            <a:chOff x="1023840" y="4795920"/>
            <a:chExt cx="577800" cy="119160"/>
          </a:xfrm>
        </p:grpSpPr>
        <p:sp>
          <p:nvSpPr>
            <p:cNvPr id="153" name=""/>
            <p:cNvSpPr/>
            <p:nvPr/>
          </p:nvSpPr>
          <p:spPr>
            <a:xfrm>
              <a:off x="1023840" y="4795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478520" y="4860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023840" y="5200560"/>
            <a:ext cx="577800" cy="119160"/>
            <a:chOff x="1023840" y="5200560"/>
            <a:chExt cx="577800" cy="119160"/>
          </a:xfrm>
        </p:grpSpPr>
        <p:sp>
          <p:nvSpPr>
            <p:cNvPr id="156" name=""/>
            <p:cNvSpPr/>
            <p:nvPr/>
          </p:nvSpPr>
          <p:spPr>
            <a:xfrm>
              <a:off x="1023840" y="5200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8520" y="52646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23840" y="5681520"/>
            <a:ext cx="577800" cy="119160"/>
            <a:chOff x="1023840" y="5681520"/>
            <a:chExt cx="577800" cy="119160"/>
          </a:xfrm>
        </p:grpSpPr>
        <p:sp>
          <p:nvSpPr>
            <p:cNvPr id="159" name=""/>
            <p:cNvSpPr/>
            <p:nvPr/>
          </p:nvSpPr>
          <p:spPr>
            <a:xfrm>
              <a:off x="1023840" y="56815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78520" y="57456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23840" y="6054840"/>
            <a:ext cx="577800" cy="118800"/>
            <a:chOff x="1023840" y="6054840"/>
            <a:chExt cx="577800" cy="118800"/>
          </a:xfrm>
        </p:grpSpPr>
        <p:sp>
          <p:nvSpPr>
            <p:cNvPr id="162" name=""/>
            <p:cNvSpPr/>
            <p:nvPr/>
          </p:nvSpPr>
          <p:spPr>
            <a:xfrm>
              <a:off x="1023840" y="60548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478520" y="61185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23840" y="6459480"/>
            <a:ext cx="577800" cy="119160"/>
            <a:chOff x="1023840" y="6459480"/>
            <a:chExt cx="577800" cy="119160"/>
          </a:xfrm>
        </p:grpSpPr>
        <p:sp>
          <p:nvSpPr>
            <p:cNvPr id="165" name=""/>
            <p:cNvSpPr/>
            <p:nvPr/>
          </p:nvSpPr>
          <p:spPr>
            <a:xfrm>
              <a:off x="1023840" y="64594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478520" y="65235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Num :: Int -&gt; [Int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Num x []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lemNum x (y: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== y    = 1 + elemNum x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elemNum x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1400" y="2933640"/>
            <a:ext cx="7951680" cy="1935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::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verse (x:xs) = reverse xs ++ [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:: [(a,b)] -&gt; ([a],[b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[] = ([],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((a,b):xs) = (a:as,b: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here (as,bs) = unzip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41400" y="2933640"/>
            <a:ext cx="7951680" cy="1216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41400" y="4643280"/>
            <a:ext cx="7951680" cy="135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５　リスト上の一般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:: [a] -&gt; [b] -&gt; [(a,b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[1,5] [’c’,’d’]=[(1,’c’),(5,’d’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[1,5] [’c’,’d’,’e’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[(1,’c’),(5,’d’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(x:xs) (y:ys) = (x,y) : zip xs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_ _           = []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５　リスト上の一般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:: [a] -&gt; [b] -&gt; [(a,b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(x:xs) (y:ys) = (x,y) : zip xs 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_ _           = []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[1,5] [’c’,’d’,’e’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,’c’) : zip [5] [’d’,’e’]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,’c’) : (5,’d’) : zip [] [’e’]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Courier New"/>
              </a:rPr>
              <a:t>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,’c’) : (5,’d’) : []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zip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,’c’) : [(5,’d’)]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:</a:t>
            </a:r>
            <a:r>
              <a:rPr b="0" lang="ja-JP" sz="2800" spc="-1" strike="noStrike">
                <a:solidFill>
                  <a:srgbClr val="ff5050"/>
                </a:solidFill>
                <a:latin typeface="Courier New"/>
              </a:rPr>
              <a:t>の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(1,’c’) , (5,’d’)]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:</a:t>
            </a:r>
            <a:r>
              <a:rPr b="0" lang="ja-JP" sz="2800" spc="-1" strike="noStrike">
                <a:solidFill>
                  <a:srgbClr val="ff5050"/>
                </a:solidFill>
                <a:latin typeface="Courier New"/>
              </a:rPr>
              <a:t>の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54080" y="4778280"/>
            <a:ext cx="577800" cy="119160"/>
            <a:chOff x="1054080" y="4778280"/>
            <a:chExt cx="577800" cy="119160"/>
          </a:xfrm>
        </p:grpSpPr>
        <p:sp>
          <p:nvSpPr>
            <p:cNvPr id="183" name=""/>
            <p:cNvSpPr/>
            <p:nvPr/>
          </p:nvSpPr>
          <p:spPr>
            <a:xfrm>
              <a:off x="1054080" y="4778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508760" y="4842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062000" y="5199120"/>
            <a:ext cx="577800" cy="119160"/>
            <a:chOff x="1062000" y="5199120"/>
            <a:chExt cx="577800" cy="119160"/>
          </a:xfrm>
        </p:grpSpPr>
        <p:sp>
          <p:nvSpPr>
            <p:cNvPr id="186" name=""/>
            <p:cNvSpPr/>
            <p:nvPr/>
          </p:nvSpPr>
          <p:spPr>
            <a:xfrm>
              <a:off x="1062000" y="5199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516680" y="5263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069920" y="5619600"/>
            <a:ext cx="577800" cy="119160"/>
            <a:chOff x="1069920" y="5619600"/>
            <a:chExt cx="577800" cy="119160"/>
          </a:xfrm>
        </p:grpSpPr>
        <p:sp>
          <p:nvSpPr>
            <p:cNvPr id="189" name=""/>
            <p:cNvSpPr/>
            <p:nvPr/>
          </p:nvSpPr>
          <p:spPr>
            <a:xfrm>
              <a:off x="1069920" y="56196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524600" y="56836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077840" y="6040440"/>
            <a:ext cx="577800" cy="119160"/>
            <a:chOff x="1077840" y="6040440"/>
            <a:chExt cx="577800" cy="119160"/>
          </a:xfrm>
        </p:grpSpPr>
        <p:sp>
          <p:nvSpPr>
            <p:cNvPr id="192" name=""/>
            <p:cNvSpPr/>
            <p:nvPr/>
          </p:nvSpPr>
          <p:spPr>
            <a:xfrm>
              <a:off x="1077840" y="60404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532520" y="61045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085760" y="6461280"/>
            <a:ext cx="577800" cy="118800"/>
            <a:chOff x="1085760" y="6461280"/>
            <a:chExt cx="577800" cy="118800"/>
          </a:xfrm>
        </p:grpSpPr>
        <p:sp>
          <p:nvSpPr>
            <p:cNvPr id="195" name=""/>
            <p:cNvSpPr/>
            <p:nvPr/>
          </p:nvSpPr>
          <p:spPr>
            <a:xfrm>
              <a:off x="1085760" y="646128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540440" y="6525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５　リスト上の一般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:: Int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5  ”Hot Rats” = ”Hot 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15 ”Hot Rats” = ”Hot Ra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0 _ 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_ []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n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= x : take (n-1) x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_ _  = error ”PreludeList.ta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ive argument”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.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７．５　リスト上の一般再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qSort :: [Int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[4,2,      [2,1,4]     [1,2,4]     [1,2,4]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7,1,4,       [4]         [4]         [4]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5,6]       [7,5,6]     [5,6,7]     [5,6,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qSort []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qSort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qSort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qSort [y | y &lt;- xs, y &lt;= x] ++ [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+ qSort [y | y &lt;- xs, y &gt; 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qSort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1640" y="3471840"/>
            <a:ext cx="855720" cy="144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1640" y="3024360"/>
            <a:ext cx="855720" cy="31428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551640" y="3608280"/>
            <a:ext cx="855720" cy="31608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00560" y="3473280"/>
            <a:ext cx="946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00560" y="3114720"/>
            <a:ext cx="946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00560" y="3843360"/>
            <a:ext cx="946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85920" y="3473280"/>
            <a:ext cx="946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85920" y="3475080"/>
            <a:ext cx="765360" cy="360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185920" y="3114360"/>
            <a:ext cx="765360" cy="360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 :: Int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 0 xs =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 _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 n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= drop (n-1)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 _ _  = error ”PreludeList.ta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ive argu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41400" y="2933640"/>
            <a:ext cx="8202600" cy="261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１　パタン照合</a:t>
            </a:r>
            <a:r>
              <a:rPr b="0" lang="ja-JP" sz="4400" spc="-1" strike="noStrike">
                <a:solidFill>
                  <a:srgbClr val="ffff66"/>
                </a:solidFill>
                <a:latin typeface="Courier New"/>
              </a:rPr>
              <a:t>再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復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== 0  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0 y     = y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mystery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y     = x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mystery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643280"/>
            <a:ext cx="72007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At :: Int -&gt; [a] -&gt; ([a],[a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At 0 xs = ([],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At _ [] = ([],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At n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= (x:as,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here (as,bs) = splitAt (n-1)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At _ 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error ”PreludeList.ta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ive argu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1400" y="2933640"/>
            <a:ext cx="8202600" cy="342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0 _ 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_ []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n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= x : take (n-1) x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_ _  = error ”PreludeList.ta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ive argument”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.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(-3)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69920" y="6054840"/>
            <a:ext cx="577800" cy="118800"/>
            <a:chOff x="1069920" y="6054840"/>
            <a:chExt cx="577800" cy="118800"/>
          </a:xfrm>
        </p:grpSpPr>
        <p:sp>
          <p:nvSpPr>
            <p:cNvPr id="224" name=""/>
            <p:cNvSpPr/>
            <p:nvPr/>
          </p:nvSpPr>
          <p:spPr>
            <a:xfrm>
              <a:off x="1069920" y="60548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524600" y="61185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941400" y="5950080"/>
            <a:ext cx="4351320" cy="358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0 _  = []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n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= []          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n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= x : take (n-1) xs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take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_ _  = error ”PreludeList.ta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ive argument”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.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7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ワープ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he heat bloomed     in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s the   carnival  s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kicked into  g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arly helpless with sun and glare,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voided Rio’s brilliant sidew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d glittering beach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anting in dark   co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d waiting out the inverted sout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ワープ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he heat bloomed in December a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rnival season kicked into g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arly helpless with sun and gl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 avoided Rio’s brilliant sidew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d glittering beaches, pan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ark corners and waiting ou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verted southern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ワープ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he heat bloomed in December a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rnival  season  kicked into g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arly helpless with sun and gl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 avoided Rio’s brilliant sidew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d glittering beaches, panting 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ark  corners  and  waiting ou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verted southern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全体的な戦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あらゆる空白を捨てて入力文字列を語へ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語を要求された長さの行に再配置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行に空白を付加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hitespace = [’\n’,’\t’,’ ’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Word :: String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Word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Word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elem x whitespace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  = x : getWor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Word ”cat dog”   ”c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676760" y="6053040"/>
            <a:ext cx="577800" cy="119160"/>
            <a:chOff x="4676760" y="6053040"/>
            <a:chExt cx="577800" cy="119160"/>
          </a:xfrm>
        </p:grpSpPr>
        <p:sp>
          <p:nvSpPr>
            <p:cNvPr id="246" name=""/>
            <p:cNvSpPr/>
            <p:nvPr/>
          </p:nvSpPr>
          <p:spPr>
            <a:xfrm>
              <a:off x="4676760" y="60530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131440" y="61171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Word :: String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Word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Word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elem x whitespace =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  = dropWor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Word ”cat dog”   ” d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886280" y="5200560"/>
            <a:ext cx="577800" cy="119160"/>
            <a:chOff x="4886280" y="5200560"/>
            <a:chExt cx="577800" cy="119160"/>
          </a:xfrm>
        </p:grpSpPr>
        <p:sp>
          <p:nvSpPr>
            <p:cNvPr id="252" name=""/>
            <p:cNvSpPr/>
            <p:nvPr/>
          </p:nvSpPr>
          <p:spPr>
            <a:xfrm>
              <a:off x="4886280" y="5200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340960" y="52646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Space :: String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Space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Space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elem x whitespace = dropSpace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(x: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Space ” dog”   ”d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81640" y="5200560"/>
            <a:ext cx="577800" cy="119160"/>
            <a:chOff x="4481640" y="5200560"/>
            <a:chExt cx="577800" cy="119160"/>
          </a:xfrm>
        </p:grpSpPr>
        <p:sp>
          <p:nvSpPr>
            <p:cNvPr id="258" name=""/>
            <p:cNvSpPr/>
            <p:nvPr/>
          </p:nvSpPr>
          <p:spPr>
            <a:xfrm>
              <a:off x="4481640" y="5200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936320" y="52646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１　パタン照合</a:t>
            </a:r>
            <a:r>
              <a:rPr b="0" lang="ja-JP" sz="4400" spc="-1" strike="noStrike">
                <a:solidFill>
                  <a:srgbClr val="ffff66"/>
                </a:solidFill>
                <a:latin typeface="Courier New"/>
              </a:rPr>
              <a:t>再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ワイルドカ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0 y     = y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mystery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y     = x        </a:t>
            </a: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(mystery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0 y 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_ 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135320"/>
            <a:ext cx="72007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7360" y="2933640"/>
            <a:ext cx="495000" cy="49536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344952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y</a:t>
            </a:r>
            <a:r>
              <a:rPr b="0" lang="ja-JP" sz="2800" spc="-1" strike="noStrike">
                <a:solidFill>
                  <a:srgbClr val="ff5050"/>
                </a:solidFill>
                <a:latin typeface="Arial"/>
              </a:rPr>
              <a:t>は使用されてい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5"/>
            <a:endCxn id="54" idx="1"/>
          </p:cNvCxnSpPr>
          <p:nvPr/>
        </p:nvCxnSpPr>
        <p:spPr>
          <a:xfrm>
            <a:off x="3419640" y="3374640"/>
            <a:ext cx="543600" cy="335880"/>
          </a:xfrm>
          <a:prstGeom prst="straightConnector1">
            <a:avLst/>
          </a:prstGeom>
          <a:ln w="38160">
            <a:solidFill>
              <a:srgbClr val="ff505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997360" y="5094360"/>
            <a:ext cx="495000" cy="49536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561024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5050"/>
                </a:solidFill>
                <a:latin typeface="Courier New"/>
              </a:rPr>
              <a:t>ワイルドカ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5"/>
            <a:endCxn id="57" idx="1"/>
          </p:cNvCxnSpPr>
          <p:nvPr/>
        </p:nvCxnSpPr>
        <p:spPr>
          <a:xfrm>
            <a:off x="3419640" y="5535720"/>
            <a:ext cx="543600" cy="335520"/>
          </a:xfrm>
          <a:prstGeom prst="straightConnector1">
            <a:avLst/>
          </a:prstGeom>
          <a:ln w="38160">
            <a:solidFill>
              <a:srgbClr val="ff505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Word =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Words :: String -&gt; [W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Words st = split (dropSpace 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 :: String -&gt; [W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getWord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 split (dropSpace (dropWord s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Words ”  dog c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 ”dog c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Word ”dog c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 split (drop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dropWord ”dog cat”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split (dropSpace ” ca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split ”c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getWord ”cat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 split (drop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dropWord ”cat”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15920" y="3068640"/>
            <a:ext cx="577800" cy="119160"/>
            <a:chOff x="1015920" y="3068640"/>
            <a:chExt cx="577800" cy="119160"/>
          </a:xfrm>
        </p:grpSpPr>
        <p:sp>
          <p:nvSpPr>
            <p:cNvPr id="267" name=""/>
            <p:cNvSpPr/>
            <p:nvPr/>
          </p:nvSpPr>
          <p:spPr>
            <a:xfrm>
              <a:off x="1015920" y="3068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470600" y="3132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15920" y="3535200"/>
            <a:ext cx="577800" cy="119160"/>
            <a:chOff x="1015920" y="3535200"/>
            <a:chExt cx="577800" cy="119160"/>
          </a:xfrm>
        </p:grpSpPr>
        <p:sp>
          <p:nvSpPr>
            <p:cNvPr id="270" name=""/>
            <p:cNvSpPr/>
            <p:nvPr/>
          </p:nvSpPr>
          <p:spPr>
            <a:xfrm>
              <a:off x="1015920" y="3535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470600" y="3599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30320" y="4749840"/>
            <a:ext cx="577800" cy="119160"/>
            <a:chOff x="1030320" y="4749840"/>
            <a:chExt cx="577800" cy="119160"/>
          </a:xfrm>
        </p:grpSpPr>
        <p:sp>
          <p:nvSpPr>
            <p:cNvPr id="273" name=""/>
            <p:cNvSpPr/>
            <p:nvPr/>
          </p:nvSpPr>
          <p:spPr>
            <a:xfrm>
              <a:off x="1030320" y="47498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485000" y="48139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044720" y="5184720"/>
            <a:ext cx="577800" cy="119160"/>
            <a:chOff x="1044720" y="5184720"/>
            <a:chExt cx="577800" cy="119160"/>
          </a:xfrm>
        </p:grpSpPr>
        <p:sp>
          <p:nvSpPr>
            <p:cNvPr id="276" name=""/>
            <p:cNvSpPr/>
            <p:nvPr/>
          </p:nvSpPr>
          <p:spPr>
            <a:xfrm>
              <a:off x="1044720" y="5184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499400" y="5248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38240" y="5649840"/>
            <a:ext cx="577800" cy="119160"/>
            <a:chOff x="1038240" y="5649840"/>
            <a:chExt cx="577800" cy="119160"/>
          </a:xfrm>
        </p:grpSpPr>
        <p:sp>
          <p:nvSpPr>
            <p:cNvPr id="279" name=""/>
            <p:cNvSpPr/>
            <p:nvPr/>
          </p:nvSpPr>
          <p:spPr>
            <a:xfrm>
              <a:off x="1038240" y="56498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492920" y="57139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語の抽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getWord ”cat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 split (drop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dropWord ”cat”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”cat” : split(dropSpace 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”cat” : split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g” : ”cat” :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”dog” , ”cat”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030320" y="4329000"/>
            <a:ext cx="577800" cy="119160"/>
            <a:chOff x="1030320" y="4329000"/>
            <a:chExt cx="577800" cy="119160"/>
          </a:xfrm>
        </p:grpSpPr>
        <p:sp>
          <p:nvSpPr>
            <p:cNvPr id="285" name=""/>
            <p:cNvSpPr/>
            <p:nvPr/>
          </p:nvSpPr>
          <p:spPr>
            <a:xfrm>
              <a:off x="1030320" y="43290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485000" y="4393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044720" y="4764240"/>
            <a:ext cx="577800" cy="118800"/>
            <a:chOff x="1044720" y="4764240"/>
            <a:chExt cx="577800" cy="118800"/>
          </a:xfrm>
        </p:grpSpPr>
        <p:sp>
          <p:nvSpPr>
            <p:cNvPr id="288" name=""/>
            <p:cNvSpPr/>
            <p:nvPr/>
          </p:nvSpPr>
          <p:spPr>
            <a:xfrm>
              <a:off x="1044720" y="47642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499400" y="48279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038240" y="5229360"/>
            <a:ext cx="577800" cy="118800"/>
            <a:chOff x="1038240" y="5229360"/>
            <a:chExt cx="577800" cy="118800"/>
          </a:xfrm>
        </p:grpSpPr>
        <p:sp>
          <p:nvSpPr>
            <p:cNvPr id="291" name=""/>
            <p:cNvSpPr/>
            <p:nvPr/>
          </p:nvSpPr>
          <p:spPr>
            <a:xfrm>
              <a:off x="1038240" y="52293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492920" y="5293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30320" y="3924360"/>
            <a:ext cx="577800" cy="119160"/>
            <a:chOff x="1030320" y="3924360"/>
            <a:chExt cx="577800" cy="119160"/>
          </a:xfrm>
        </p:grpSpPr>
        <p:sp>
          <p:nvSpPr>
            <p:cNvPr id="294" name=""/>
            <p:cNvSpPr/>
            <p:nvPr/>
          </p:nvSpPr>
          <p:spPr>
            <a:xfrm>
              <a:off x="1030320" y="39243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485000" y="39884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行への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Line = [W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Line :: Int -&gt; [Word] -&gt;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Line len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etLine len (w: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length w &lt;= len = w : restOf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wlen = len – (length w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stOfLine = getLine newlen 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行への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ropLine :: Int -&gt; [Word] -&gt;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Lines :: [Word] -&gt; [Li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Lines []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plitLines 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getLine lineLen 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 splitLines(dropLine lineLen 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６　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Courier New"/>
              </a:rPr>
              <a:t>テキスト処理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ll :: String -&gt; [Li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ll = splitLines . split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joinLines :: [Line]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960" y="1982880"/>
            <a:ext cx="8601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リスト上の再帰による関数定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分割統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再帰プログラムの設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ボトムアップアプロー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１　パタン照合</a:t>
            </a:r>
            <a:r>
              <a:rPr b="0" lang="ja-JP" sz="4400" spc="-1" strike="noStrike">
                <a:solidFill>
                  <a:srgbClr val="ffff66"/>
                </a:solidFill>
                <a:latin typeface="Courier New"/>
              </a:rPr>
              <a:t>再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のまと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リテラル値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4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f’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変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ongVariableNam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ワイルドカード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タプルパタン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p1,p2,..,pn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構成子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: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頭部と尾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リストは，空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非空のいずれ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非空ならば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:x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urier New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Courier New"/>
              </a:rPr>
              <a:t>x:x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4920" y="3863880"/>
            <a:ext cx="6379200" cy="1708560"/>
            <a:chOff x="1294920" y="3863880"/>
            <a:chExt cx="6379200" cy="1708560"/>
          </a:xfrm>
        </p:grpSpPr>
        <p:sp>
          <p:nvSpPr>
            <p:cNvPr id="66" name=""/>
            <p:cNvSpPr/>
            <p:nvPr/>
          </p:nvSpPr>
          <p:spPr>
            <a:xfrm>
              <a:off x="3941640" y="3863880"/>
              <a:ext cx="451080" cy="451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41760" y="3863880"/>
              <a:ext cx="631800" cy="451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4920" y="4869000"/>
              <a:ext cx="221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ff3399"/>
                  </a:solidFill>
                  <a:latin typeface="Arial"/>
                </a:rPr>
                <a:t>頭部</a:t>
              </a:r>
              <a:r>
                <a:rPr b="0" lang="en-US" sz="4000" spc="-1" strike="noStrike">
                  <a:solidFill>
                    <a:srgbClr val="ff3399"/>
                  </a:solidFill>
                  <a:latin typeface="Times New Roman"/>
                </a:rPr>
                <a:t>(head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73320" y="4869000"/>
              <a:ext cx="19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ff3399"/>
                  </a:solidFill>
                  <a:latin typeface="Arial"/>
                </a:rPr>
                <a:t>尾部</a:t>
              </a:r>
              <a:r>
                <a:rPr b="0" lang="en-US" sz="4000" spc="-1" strike="noStrike">
                  <a:solidFill>
                    <a:srgbClr val="ff3399"/>
                  </a:solidFill>
                  <a:latin typeface="Times New Roman"/>
                </a:rPr>
                <a:t>(tail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8" idx="0"/>
              <a:endCxn id="66" idx="2"/>
            </p:cNvCxnSpPr>
            <p:nvPr/>
          </p:nvCxnSpPr>
          <p:spPr>
            <a:xfrm flipV="1">
              <a:off x="2400480" y="4088880"/>
              <a:ext cx="1522800" cy="78048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  <p:cxnSp>
          <p:nvCxnSpPr>
            <p:cNvPr id="71" name=""/>
            <p:cNvCxnSpPr>
              <a:endCxn id="69" idx="0"/>
            </p:cNvCxnSpPr>
            <p:nvPr/>
          </p:nvCxnSpPr>
          <p:spPr>
            <a:xfrm>
              <a:off x="5202000" y="4103640"/>
              <a:ext cx="1523160" cy="76608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構成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リストは，空リスト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ら出発して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: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繰り返して構成することができ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:[] = [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:[3] = [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:[2,3] = [4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0880" y="369900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構成の仕方は，唯一に決ま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urier New"/>
              </a:rPr>
              <a:t>⇒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構成子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constructor)</a:t>
            </a:r>
            <a:r>
              <a:rPr b="0" lang="ja-JP" sz="2800" spc="-1" strike="noStrike">
                <a:solidFill>
                  <a:srgbClr val="ff3399"/>
                </a:solidFill>
                <a:latin typeface="Times New Roman"/>
              </a:rPr>
              <a:t>，コン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[4]++[2,3] = [4,2]++[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ead :: [a]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ead (x:_)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il ::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il (_:xs) =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ull :: [a]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ull []    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ull (_:_) 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７．２　リストとリストパタン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se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構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Digit :: String -&gt;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Digit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case (digits st)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]    -&gt; ’\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x:_) -&gt;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42:32Z</dcterms:modified>
  <cp:revision>161</cp:revision>
  <dc:subject/>
  <dc:title>PowerPoint Presentation</dc:title>
</cp:coreProperties>
</file>